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png" ContentType="image/png"/>
  <Override PartName="/ppt/media/image10.jpeg" ContentType="image/jpeg"/>
  <Override PartName="/ppt/media/image8.jpeg" ContentType="image/jpeg"/>
  <Override PartName="/ppt/media/image18.gif" ContentType="image/gif"/>
  <Override PartName="/ppt/media/image3.wmf" ContentType="image/x-wmf"/>
  <Override PartName="/ppt/media/image4.png" ContentType="image/png"/>
  <Override PartName="/ppt/media/image17.gif" ContentType="image/gif"/>
  <Override PartName="/ppt/media/image2.wmf" ContentType="image/x-wmf"/>
  <Override PartName="/ppt/media/image14.gif" ContentType="image/gif"/>
  <Override PartName="/ppt/media/image1.png" ContentType="image/png"/>
  <Override PartName="/ppt/media/image5.gif" ContentType="image/gif"/>
  <Override PartName="/ppt/media/image6.jpeg" ContentType="image/jpeg"/>
  <Override PartName="/ppt/media/image15.gif" ContentType="image/gif"/>
  <Override PartName="/ppt/media/image7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307-4B98-4B7E-B1C4-3D293137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09C-68E1-4F1E-A9EB-F77D30C8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775-A2D9-4029-9951-9C8A0EE5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D35-E495-4F5F-808B-078B0374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3EF-2D31-4190-BE09-0584D6E1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E4A4-CC1D-481B-9AA7-21D78FF8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BA1-24D6-4046-BF00-E23D832D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4E8-9380-4185-97D0-22555B1B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687-C03A-485F-8C0A-F510CB24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D91-6AF3-4182-B0BD-3ABC66DB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B61-9379-4D92-BDBB-2574C11F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34E-6509-4609-AB9B-AC37825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3414-5FAA-493F-9B79-5F327C2BB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quistadors and P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lumbian civiliz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: Riley App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434340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86600" y="46483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066680" y="1219320"/>
            <a:ext cx="129564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5bbd5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Azte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nap ITC"/>
              </a:rPr>
              <a:t>Aztecs lived in Central Mexico – Valley of Mexico. Their capital city, Tenochtitlan, was built on islands in the middle of a l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Snap ITC"/>
              </a:rPr>
              <a:t>Aztecs are polytheistic – Believed in many gods. ( Sun god, Water god, Thunder god ec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124080" y="5157720"/>
            <a:ext cx="2210040" cy="17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38680" y="56062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.wikipedia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818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e Mayas lived in the Mexican Coast – Yucatan Penins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ey had slaves, who could sometimes gain their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4495680"/>
            <a:ext cx="2898720" cy="2362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515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quest.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4800600"/>
            <a:ext cx="1371600" cy="83808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orte"/>
              </a:rPr>
              <a:t>No written language but had spoken language.( Used knots as mess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orte"/>
              </a:rPr>
              <a:t>Practiced there religion of animal sacrifice and on a special occasions, they did human sacrifice such as on (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orte"/>
              </a:rPr>
              <a:t>The Incas used to live in South America Andes M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838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14600" y="380880"/>
            <a:ext cx="2286000" cy="685800"/>
          </a:xfrm>
          <a:prstGeom prst="rightArrow">
            <a:avLst>
              <a:gd name="adj1" fmla="val 50000"/>
              <a:gd name="adj2" fmla="val 8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One Stroke Script LET"/>
              </a:rPr>
              <a:t>Cortez was a conquistador, also a Spanish explorer who traveled to Mexico in search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One Stroke Script LET"/>
              </a:rPr>
              <a:t>Cortez was the one that captured Montezuma</a:t>
            </a:r>
            <a:r>
              <a:rPr b="0" lang="en-US" sz="3200" spc="-1" strike="noStrike">
                <a:solidFill>
                  <a:srgbClr val="003300"/>
                </a:solidFill>
                <a:latin typeface="One Stroke Script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One Stroke Script LET"/>
              </a:rPr>
              <a:t>The Aztecs had a belief in a god called Quetzacoatl. They believed that Cortez was the god because of his pale skin and b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003300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One Stroke Script LET"/>
              </a:rPr>
              <a:t>The Spanish explorers destroyed Tenochitlan and made a new city in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1573200" cy="1838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362320" y="3352680"/>
            <a:ext cx="2971800" cy="68580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119600">
            <a:off x="6781320" y="0"/>
            <a:ext cx="1067040" cy="1523880"/>
          </a:xfrm>
          <a:prstGeom prst="downArrow">
            <a:avLst>
              <a:gd name="adj1" fmla="val 50000"/>
              <a:gd name="adj2" fmla="val 357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ictoria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Pizarro was a Spanish explorer and a conquis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ictoria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Pizarro demanded that the Incas get Pizarro a room that would be filled with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ictoria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Incas were easily taken over by Pizarro in a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2770200" cy="3733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rot="5400000">
            <a:off x="1981080" y="4495680"/>
            <a:ext cx="1523880" cy="2286000"/>
          </a:xfrm>
          <a:prstGeom prst="upArrow">
            <a:avLst>
              <a:gd name="adj1" fmla="val 50000"/>
              <a:gd name="adj2" fmla="val 375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answ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We see that Spanish explorers and conquistadors changed it because in Mexico now everybody speaks Spanish the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038480" y="4343400"/>
            <a:ext cx="1133640" cy="126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4800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934320" y="4191120"/>
            <a:ext cx="1279440" cy="1828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WATCHING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 Ri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person Ri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round designer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person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designer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YOUR HOST R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48320" y="1387440"/>
            <a:ext cx="129528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7:13Z</dcterms:created>
  <dc:creator>jklib</dc:creator>
  <dc:description/>
  <dc:language>en-US</dc:language>
  <cp:lastModifiedBy>jklib</cp:lastModifiedBy>
  <dcterms:modified xsi:type="dcterms:W3CDTF">2011-11-29T16:04:53Z</dcterms:modified>
  <cp:revision>5</cp:revision>
  <dc:subject/>
  <dc:title>Conquistadors and Pre Columbian civilizations</dc:title>
</cp:coreProperties>
</file>